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2.pct" ContentType="image/x-pict"/>
  <Override PartName="/ppt/media/image3.pct" ContentType="image/x-pict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7B47-71F5-4554-AF26-AA0D40235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D2B0-C819-4D4E-AE59-5690EAEED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24E5-40B1-43B6-B975-07D72501F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5996-67D7-490E-B04B-85AA5CBD7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FD9C33-DD98-4D3F-99C4-FEA2B668C48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688605-CAAB-481B-99DC-4EEBB0ED5C7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B392AF-1DE0-416A-AAFD-BBEA9FE44E8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D447EA-F938-48F7-827E-0B4EB581217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F59907-6078-4B5C-9553-37F5593C5DB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440" y="609480"/>
            <a:ext cx="7086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0AFE69-73CD-42BF-8FA2-F51973FAB4A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1667C6-39B7-4D84-902F-C7BFDF8C74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5DA6-96C7-498F-9295-640C2E06C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4D94B1-DF9E-4062-B510-B20D259E8E9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89019E-3CA9-4258-8CCC-8B2EDD0D1B6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1041CB-C7FD-436D-B23B-72DC6FFC8EC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291839-53B3-410E-A6DB-F144A1117AC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B597E8-8A7B-490E-A252-D9751CBC95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2E5A-8FB3-4360-B7D7-1A8D2EA00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0DE2-47F5-49A6-9CBB-D4A0BF291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0CEC-29E2-46A8-91B7-0EC4C32E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440" y="609480"/>
            <a:ext cx="7086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B2C7-2861-4194-AF0D-E19F0440A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1424-F23A-4E02-9B3F-E4205233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CF9A-CA8C-47ED-BA37-512F2339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9D03-85B9-4E61-AD4C-651C40FC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K-12 Alliance/WesEd ‘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FA87F-CDB4-48FE-BD40-5FCF38ADDA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72400" y="0"/>
            <a:ext cx="1371600" cy="8794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304920" y="1676520"/>
            <a:ext cx="861048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K-12 Alliance/WesEd ‘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5"/>
          </p:nvPr>
        </p:nvSpPr>
        <p:spPr>
          <a:xfrm>
            <a:off x="6629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8F1A6-2318-4138-9A37-8DC580606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772400" y="0"/>
            <a:ext cx="1371600" cy="8794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04920" y="1676520"/>
            <a:ext cx="861048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topps@wested.org" TargetMode="External"/><Relationship Id="rId2" Type="http://schemas.openxmlformats.org/officeDocument/2006/relationships/hyperlink" Target="mailto:kdirann@wested.org" TargetMode="External"/><Relationship Id="rId3" Type="http://schemas.openxmlformats.org/officeDocument/2006/relationships/hyperlink" Target="mailto:melissa.smith@leusd.k12.ca.us" TargetMode="External"/><Relationship Id="rId4" Type="http://schemas.openxmlformats.org/officeDocument/2006/relationships/hyperlink" Target="mailto:melissa.smith@leusd.k12.ca.us" TargetMode="External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oing with the Conceptual Flow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19320" y="3352680"/>
            <a:ext cx="64008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esented b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Jo Topps, Regional Director, K-12 Alliance/ WestE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jtopps@wested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Kathy DiRanna, Statewide Director, K-12 Alliance/ WestEd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kdirann@wested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Melissa Smith, TOSA,  Lake Elsinore Unified School Distric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melissa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.smith@leusd.k12.ca.u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SDC 200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ormative Assessmen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nk about where you would need an assessment in this conceptual flow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aw a flag at critical points that will inform instruc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33520" y="310500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07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nceptual Flow: a PLC Tool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can the conceptual flow process help build professional learning communitie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can the conceptual flow process help enhance teacher quality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ransford, John D., Ann L. Brown, Rodney C. Cocking, How People Learn,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National Academy Pres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1999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Ranna, Kathryn, Ellen Osmundson, Jo Topps, Lynn Barakos, Maryl Gerhardt,  Karen Cerwin, Diane Carnahan, Craig Strang,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Assessment- Centered Teaching: A Reflective Practic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Corwin Press, 200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ssion Outcom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derstand how the use of conceptual flow builds a community of learners at school/district sit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perience the development of a conceptual flow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derstand the value of a conceptual flow as a guide for:  aligning standards,  instruction,  assessment points and evaluating instructional material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arn how several districts have used the conceptual flow to change teacher practice and district polic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eaching and Learn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nk about a content area you reall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derstan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did you go about learning it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ceptual Flow an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How People Lear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ey Finding #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develop competence in an area of learning, students must have both a deep foundation of factual knowledge and a strong conceptual framework…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y to expertise is the mastery of concepts that allow for deep understanding of that information, transforming it from a set of facts into usable knowledge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d unlike pure acquisition of factual knowledge, the mastery of concepts facilitates transfer of learning to new problems…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is research has clear implications for what is taught, how it is taught, and the preparation required for teaching.”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Bransford, 1999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nceptual Flow Basic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tails the important concep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ntifies an instructional seque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ntifies important concepts for assessment of student understand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rves as a tool for evaluation of instructional materia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DiRanna, Osmundson, Topps, Gerhardt, Barakos, Cerwin, Carnahan, Strang, 2008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nceptual Flow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914400" y="3276720"/>
          <a:ext cx="7334280" cy="156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276720"/>
                    <a:ext cx="7334280" cy="15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oldilocks and the Three Bear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call the the sto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are the big ideas in the stor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are the smaller ideas in the stor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Quick Write Promp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What should an exiting 9th grader know about ecosystem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747880" y="3567240"/>
          <a:ext cx="3799080" cy="262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7880" y="3567240"/>
                    <a:ext cx="3799080" cy="26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nceptual Flow Proces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) Conduct an individual pre-think of the important concepts a student should know about a big ide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) Create a collaborative pre-think from the individual pre-think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.) Match collaborative pre-think to concepts addressed in the instructional material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.) Align concepts from the collaborative pre-think and instructional materials to content standard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.) Review progression of concepts and place them in an instructional sequence with the strongest possible links for student understanding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"/>
          <p:cNvSpPr/>
          <p:nvPr/>
        </p:nvSpPr>
        <p:spPr>
          <a:xfrm>
            <a:off x="3718080" y="7299360"/>
            <a:ext cx="1839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30T18:34:09Z</dcterms:created>
  <dc:creator>Kathy DiRanna</dc:creator>
  <dc:description/>
  <dc:language>en-US</dc:language>
  <cp:lastModifiedBy>WestEd Staff</cp:lastModifiedBy>
  <cp:lastPrinted>2009-12-01T15:22:09Z</cp:lastPrinted>
  <dcterms:modified xsi:type="dcterms:W3CDTF">2009-12-01T15:25:40Z</dcterms:modified>
  <cp:revision>32</cp:revision>
  <dc:subject/>
  <dc:title>PowerPoint Presentation</dc:title>
</cp:coreProperties>
</file>